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3.png" ContentType="image/png"/>
  <Override PartName="/ppt/media/image14.png" ContentType="image/png"/>
  <Override PartName="/ppt/media/image9.png" ContentType="image/png"/>
  <Override PartName="/ppt/media/image1.jpeg" ContentType="image/jpe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5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ACBA-4498-4114-967D-C8121DC61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54AA-CB59-4B4B-B861-0B775D5FB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2AE7-3B1E-47C7-88DA-E7FF05871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E852-F538-4602-8D5F-666FC8B0E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44731-7BD1-480C-AFC4-0FF9461FB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80137-5A7D-493A-9639-1121AF460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5B4B5-0CAD-4DF8-B740-663E65338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4E188-F12E-40F2-B406-43B652B6D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AE46A-9C65-4095-86FC-CF799F30B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FFF9A-7589-4E42-B611-DE782E43A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13477-DAD5-4237-A3CA-50C716C60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E9DC-F029-4142-98E7-5D69DCD9F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0F3F8-F08D-45C4-A756-8269EF551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FCC0E-E8CB-42ED-A04C-36542401D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DD2DF-25CA-40D3-AD34-00AAE0002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00363-FF6A-41F3-99D9-74DE1BDF2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4F480-5186-4239-B03E-C0DCF11B6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5B4985-C696-4438-ACAA-E70DEC45E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DF6C59-1653-454F-A4FE-86EC350C5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B6C78B-4E9E-4CF0-8ACF-CE6E0627F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2D5C22-F4EB-4964-A76D-1AD185F5A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6449C5-1C3F-465D-A1BE-825E0E09B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EE7A-AEE7-430B-8879-35BFC1735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88E525-D02E-4D04-B1F8-EA2A8F591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ED18B6-9AE7-43AE-8BFD-D6313F0F3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3C7C70-4693-47BE-8231-2924FE294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AF7B8B-0501-4AD3-955C-C51D028E7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002FE3-98B4-4D4D-A0EA-6B3B5A67E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1EAF32-FD9E-4F3D-904D-6FB095CB0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A4CA49-644D-43E6-9124-DB1458C30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30BCF5-D59D-4CA9-9FB1-4CFD3D063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A14DDB-C0D1-453E-9E1F-7BDAEE44D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2B2995-88CD-4753-B1F7-16BEA36FF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2C01-4A7C-4AF4-8435-0C511F686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94112D-70CF-4865-9BF3-B3502EA30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BA7492-A3D6-4484-93F7-DD2B087C1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47439B-4E89-42F0-B999-FDCCC6D09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43D303-C583-4787-B5BA-787CF5EC1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164E84-B6D0-4246-B1D5-64BB5CC50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A50313-EE3A-434A-9D59-A10B4D606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866542-CE87-48C2-B0F3-33428FC34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99453C-5B94-4885-9E05-087A44ABF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348725-5C11-4245-A923-28BF3DBF1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54211A-FDA0-47D1-86C9-58502A34B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5689-2A5C-4FB0-A5ED-ED083BFF3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F1655E-6B68-4FDA-8956-439488B6C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7C2F1C-AEB4-4E15-A55B-ADA5FC7D7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AAC041-5EE4-424E-835F-4B37BC312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ECB3A6-3AE4-40B2-8499-2173DE72D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8EB0CC-AE27-432A-B91C-A1D2290C1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909071-9F84-41CB-9BD0-D24BCC765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B5926A-4B7B-4776-AB12-4ABE04062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144E4F-C65E-4F57-BCEC-A9CDDF6FC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F953DD-D58D-455C-8849-CB67FD1FA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5CEA95-D7A3-4BC8-B7C5-D0DC9498D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75A4-5ECB-4B24-A8BD-45F3B9D78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C90CCA-8639-4ECC-A8BE-A9C3FFAA4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782CEC-395A-4BBD-96F7-13C1FE01B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746DD6-6119-450A-A7DF-99DEFD7FD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7383E9-FD7F-4BBA-93F4-F9CF2BE2F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6EE85E-F4FF-4515-B871-A23027694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B21BA0-D3D5-47AD-AE80-4325ECCF3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4B69B3-9742-4B2E-BEF9-BD75AE26D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6E19A6-A10D-438D-8E35-5BAA2465D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C89774-023D-4512-A12E-A5247D7F3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5F9C80-CE68-43E8-A841-08D6E855E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BDF7-1652-45D3-9F51-8E7EA51A0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E1F026-ED39-400D-B289-A0777ADB7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E94A28-ED5B-4977-82DB-0FF2F0907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F0A348-714F-473D-B0CF-CAE24ADF3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A69181-F7BE-455E-81E1-261A0F198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6A9690-4E61-459F-A5AC-6B6875508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18B2C4-BCDB-4A5A-9D8A-707DAC76F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E6C3D8-EC40-411B-82BF-446ACB092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5EF09D-E360-4E75-AFA4-AE67D6671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0E602C-CEB8-4075-9052-CE8DE653A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558B38-893D-4D62-A84B-B50680284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A6CB-698C-4F7F-86A1-96FEB09C2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2821E2-B71A-47C6-8E4A-9A59BB8A6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8773AA-8388-4CB5-9F2B-034D3654A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E7830D-EC53-46F4-BC54-885D9C576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443910-C6AA-483A-AE4D-B2C6D0472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48640A-FEEB-4D88-8445-E75DA17FF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B09C-FBA9-4A10-8498-D5DCAB2CE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Obdélník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bdélník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14D89-DCA4-40FE-A83D-39D2407A31AC}" type="slidenum">
              <a:rPr b="0" lang="cs-CZ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bdélník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bdélník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77AAA-14F2-4C8A-AB2F-C2F2113F6D82}" type="slidenum">
              <a:rPr b="0" lang="cs-CZ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Obdélník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bdélník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E0A54-501E-45E8-A6A6-2E5A89BFB653}" type="slidenum">
              <a:rPr b="0" lang="cs-CZ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EC81E-3D69-4133-805D-C9A4D9F3FF82}" type="slidenum">
              <a:rPr b="0" lang="cs-CZ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Obdélník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bdélník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bdélník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bdélník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35F90-30E6-472F-8F43-81C605711CBB}" type="slidenum">
              <a:rPr b="0" lang="cs-CZ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Obdélník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bdélník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bdélník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bdélník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87FF5-9986-4D8C-B908-D0D4184FC361}" type="slidenum">
              <a:rPr b="0" lang="cs-CZ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Obdélník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bdélník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32D86-ED82-4BE7-8018-87EB1CBD0D22}" type="slidenum">
              <a:rPr b="0" lang="cs-CZ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Nadpis 1" descr=""/>
          <p:cNvPicPr/>
          <p:nvPr/>
        </p:nvPicPr>
        <p:blipFill>
          <a:blip r:embed="rId1"/>
          <a:stretch/>
        </p:blipFill>
        <p:spPr>
          <a:xfrm>
            <a:off x="566640" y="5181480"/>
            <a:ext cx="8089920" cy="168300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685440" y="1828440"/>
            <a:ext cx="8077320" cy="150012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05" name="Obrázek 3" descr="hate_crimes.jpg"/>
          <p:cNvPicPr/>
          <p:nvPr/>
        </p:nvPicPr>
        <p:blipFill>
          <a:blip r:embed="rId2"/>
          <a:stretch/>
        </p:blipFill>
        <p:spPr>
          <a:xfrm>
            <a:off x="357120" y="285840"/>
            <a:ext cx="8429760" cy="46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cs-CZ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ZECH REPUBLIC -  § 196 :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'violence against a group of inhabitants and against individuals on the basis of race, nationality, political conviction or religion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INLAND – Finnish Criminal Code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 makes </a:t>
            </a:r>
            <a:r>
              <a:rPr b="0" lang="cs-CZ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'committing a crime against a person, because of his national, racial, ethnical or equivalent group'</a:t>
            </a:r>
            <a:r>
              <a:rPr b="0" lang="cs-CZ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 aggravating circumstance in sentencing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cs-CZ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orbel"/>
              </a:rPr>
              <a:t>USA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ivil Rights </a:t>
            </a:r>
            <a:r>
              <a:rPr b="0" lang="cs-CZ" sz="2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Act  (1968):  "</a:t>
            </a:r>
            <a:r>
              <a:rPr b="0" lang="en-US" sz="2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y force or by threat of force, injure, intimidate, or interfere with anyone who is engaged in six specified protected activities, by reason of their race, color, religion, or national origin."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ational Crime Victim Survey</a:t>
            </a:r>
            <a:r>
              <a:rPr b="0" lang="cs-CZ" sz="2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(1999): </a:t>
            </a:r>
            <a:r>
              <a:rPr b="0" lang="en-US" sz="2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"A hate crime is a criminal offense. In the United States, federal prosecution is possible for hate crimes committed on the basis of a person's race, religion, or nation origin when engaging in a federally protected activity."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Nadpis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16880" cy="126216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 txBox="1"/>
          <p:nvPr/>
        </p:nvSpPr>
        <p:spPr>
          <a:xfrm>
            <a:off x="457200" y="2071440"/>
            <a:ext cx="8229600" cy="4329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he right to attend school without being the victim of violence, threats of harm, intimidation, or damage to your belongings 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he right to be ourself and to be free from being harassed, discriminated against, or attacked for who we are 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he right to be free from violence motivated by prejudice or hatred 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cs-CZ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hank you for your attention!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Nadpis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ias motivatio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ictim is attacked because of its membership in a certain social group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acial group, religion, sexual orientation, disability, class, ethnicity, nationality, age, sex, gender identity, social status or political opinion 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Nadpis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azis – Crystal night, Concentration camps – race, religio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t. Bartholomew's Day massacr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Ku-klux kla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Nadpis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pic>
        <p:nvPicPr>
          <p:cNvPr id="311" name="Zástupný symbol pro obsah 3" descr="pikekkk.130183310_std.jpg"/>
          <p:cNvPicPr/>
          <p:nvPr/>
        </p:nvPicPr>
        <p:blipFill>
          <a:blip r:embed="rId2"/>
          <a:stretch/>
        </p:blipFill>
        <p:spPr>
          <a:xfrm>
            <a:off x="785880" y="1722600"/>
            <a:ext cx="5500800" cy="4689360"/>
          </a:xfrm>
          <a:prstGeom prst="rect">
            <a:avLst/>
          </a:prstGeom>
          <a:ln w="0">
            <a:noFill/>
          </a:ln>
        </p:spPr>
      </p:pic>
      <p:pic>
        <p:nvPicPr>
          <p:cNvPr id="312" name="Obrázek 4" descr="ku_klux_klan_md.jpg"/>
          <p:cNvPicPr/>
          <p:nvPr/>
        </p:nvPicPr>
        <p:blipFill>
          <a:blip r:embed="rId3"/>
          <a:stretch/>
        </p:blipFill>
        <p:spPr>
          <a:xfrm>
            <a:off x="6858000" y="4500720"/>
            <a:ext cx="164304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Nadpis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ost frequent in the USA - anti-black bia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48,2 % race related, 70% of them anti-black bias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ther frequent bias motivations: anti-white, anti-Jewish, anti-Islamic, anti-homosexual, and anti-Hispanic 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sponse to hate crimes based upon race ethnicity, religion, ..., through: education, outreach, community resources and criminal justice system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Nadpis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5000"/>
          </a:bodyPr>
          <a:p>
            <a:pPr marL="416160" indent="-3027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ictims of hate crimes targeted because of their identity</a:t>
            </a:r>
            <a:r>
              <a:rPr b="0" lang="cs-CZ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hese attributes cannot be changed</a:t>
            </a:r>
            <a:r>
              <a:rPr b="0" lang="cs-CZ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ictims feel degraded, frightened, vulnerable and suspicious. 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mmunity members who share with victims may also feel vulnerable, fearful, and powerless. 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wift and strong law enforcement response can help stabilize and calm the community, while aiding the victim's recovery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Nadpis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eep personal crisis 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ense of community/system betrayal 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xtreme fear of certain groups 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ger/desire for reveng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Nadpis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ommunity tension/fear 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Loss of trust in criminal justice institutions 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Public damage, i.e. buildings such as churches/synagogue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Nadpis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. laws defining specific bias-motivated acts as distinct crime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. criminal penalty-enhancement law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3. laws creating a distinct civil cause of action for hate crime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4. laws requiring administrative agencies to collect hate crime statistic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8T08:14:11Z</dcterms:created>
  <dc:creator>vlastník</dc:creator>
  <dc:description/>
  <dc:language>en-US</dc:language>
  <cp:lastModifiedBy>vlastník</cp:lastModifiedBy>
  <dcterms:modified xsi:type="dcterms:W3CDTF">2012-03-18T18:34:22Z</dcterms:modified>
  <cp:revision>12</cp:revision>
  <dc:subject/>
  <dc:title>   Adéla Tukhi, Martina Baťková, Ivo Macháček</dc:title>
</cp:coreProperties>
</file>